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A82E0-20E7-4B0C-BD3E-F3973E5C6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18D6B-954B-4F15-B4DA-5E8B226FA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756B5-7F18-4D71-9DF8-6278B5D9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03CF7-1455-4A8C-AAAC-912224852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11312-4565-415D-A3B4-663493EF4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061-5F0B-47A0-974C-2491A49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DE2-3BC8-4B67-AFD5-8110A36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FE3-E5DC-4A99-B595-744F6A99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DCA-24AE-4F30-B615-EBD366C4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6F1E-D2C5-48A0-A025-16C1AD6B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90DE-7706-4DE5-BD99-144C2E9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8C7-A826-487B-9A0A-163CC8B2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B9D3-AAD2-448C-8335-CAC43F35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FE4-8448-44CA-9E8B-E9352F0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864E-CAF0-4141-89ED-8B80908C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937D-3352-4241-843E-733165C0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4D8-B82E-4469-82E2-7329FA9F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8FC-D544-49BB-9326-AF44DC1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6F8-5E6B-48D2-A881-C4164F2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3F9-B5DF-4AE9-9E55-3F7C761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1F8B-2DAD-4CBE-82D8-1A9167A1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73D2-FCF4-465F-AB5A-1F6B4D9A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F57-5607-49EC-B61A-4481167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A17-8BAC-4483-956C-C07AF6FA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AE6-864F-489E-974A-2E30A95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BAA-1A10-47A9-A98A-2913F79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966-4871-4D37-8E60-DFA6E9BE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E40-3ED6-45C8-A540-1203BAD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3AB-4502-41E0-8F34-C4C9311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06EBD-D834-49B4-8B0C-2821B2B5AFA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F27A1-6281-4DCE-8E3C-F32873D8C90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9B3ED-F00F-4857-842B-0BBA9DD56D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5ED5-45F6-4D10-A3D5-33B48C97583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385560"/>
            <a:ext cx="649944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m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757680"/>
            <a:ext cx="649944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8579b"/>
                </a:solidFill>
                <a:latin typeface="News Gothic MT"/>
              </a:rPr>
              <a:t>10 Rules When Using Commas</a:t>
            </a:r>
            <a:endParaRPr b="0" lang="en-US" sz="3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191200" y="596268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Caitlin Gordon and Julie Holton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93" name="Picture 4" descr="commas.jpg"/>
          <p:cNvPicPr/>
          <p:nvPr/>
        </p:nvPicPr>
        <p:blipFill>
          <a:blip r:embed="rId1"/>
          <a:stretch/>
        </p:blipFill>
        <p:spPr>
          <a:xfrm>
            <a:off x="2903400" y="2111400"/>
            <a:ext cx="3494160" cy="164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2: Using a comma after an introductory word group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als with sentences that tell information such as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en, where, how,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, or under what conditions the main action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While I was getting ready to leave, I realized that I was missing my key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Exception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ule exception: A comma is unnecessary after a short adverb clause or phrase, if there is no danger of misread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After much work we made it to the top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 Tip for Rule Two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helpful tip when using the second rule is the place a comma after the third descriptive word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 Tip for Rule Two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helpful tip when using the second rule is the place a comma after the third descriptive word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While driving home, I began to remember everything that I left at schoo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rule is also used in sentences that begin with a participle phrase, which are describing the subjec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ntroduces the reader to the fact that they are about to learn the identity of the subjec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Two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rule is also used in sentences that begin with a participle phrase, which are describing the subjec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ntroduces the reader to the fact that they are about to learn the identity of the subjec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aring her new dress, Kayla walked confidently into the room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n also be used with transitions and absolute phras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3: Using a comma between all items in a series.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en three or more items are present in a series, they should be separated from one another using comma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3: Using a comma between all items in a series.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en three or more items are present in a series, they should be separated from one another using comma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 liked the shirt so much that I got it in pink, blue, purple, and blac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-330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ule Three Continued…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00620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p: Although sometimes the comma is omitted after the second to last item in a series, doing so may result in a misreading of the sent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My list of daily chores includes making my bed, washing the dishes, sweeping and vacuuming the carpe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3" name="Picture 4" descr="index.jpg"/>
          <p:cNvPicPr/>
          <p:nvPr/>
        </p:nvPicPr>
        <p:blipFill>
          <a:blip r:embed="rId1"/>
          <a:stretch/>
        </p:blipFill>
        <p:spPr>
          <a:xfrm>
            <a:off x="549360" y="3613320"/>
            <a:ext cx="4419360" cy="2993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351640947_817270a997_z.jpg"/>
          <p:cNvPicPr/>
          <p:nvPr/>
        </p:nvPicPr>
        <p:blipFill>
          <a:blip r:embed="rId2"/>
          <a:stretch/>
        </p:blipFill>
        <p:spPr>
          <a:xfrm>
            <a:off x="5361120" y="3579840"/>
            <a:ext cx="3782880" cy="302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Purpose of a Comma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2001"/>
              </a:spcBef>
              <a:buClr>
                <a:srgbClr val="6fb7d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News Gothic MT"/>
              </a:rPr>
              <a:t>The comma was created to help readers distinguish between two parts of a sentence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49360" y="371952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6fb7d7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News Gothic MT"/>
              </a:rPr>
              <a:t>Without a comma, there is a chance for a misreading of the information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4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umulative adjectives are those that cannot modify a noun separate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My annoying little brother broke my mom’s favorite vase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7758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4: Using a comma between coordinate adjectives not joined by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an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. Do not use a comma between cumulative adjectives.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0400" y="211248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oordinate adjectives: Two or more adjectives that each modify a noun separately. They are coordinate if they can be connected using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.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1800" spc="-1" strike="noStrike">
                <a:solidFill>
                  <a:srgbClr val="595959"/>
                </a:solidFill>
                <a:latin typeface="News Gothic MT"/>
              </a:rPr>
              <a:t>The snow was cold, shimmering and bright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umulative adjectives are those that cannot modify a noun separatel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1800" spc="-1" strike="noStrike">
                <a:solidFill>
                  <a:srgbClr val="595959"/>
                </a:solidFill>
                <a:latin typeface="News Gothic MT"/>
              </a:rPr>
              <a:t>My annoying little brother broke my mom’s favorite vase.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tip to remember for this rule, is if you can put the word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into the sentence, they are coordinate adjectives and a comma can be used.  If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and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can be used in replacement of a comma, the adjectives are coordinate rather than cumulative. 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5: Using a comma to set off nonrestrictive elements. Do not use commas to set off restrictive elements. 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ords that describe a noun or pronoun are eith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n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hange the meaning of a sentence greatly if removed and are important in clarif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nrestrictive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re used for words whose meaning has already been described and for nonessential informati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Fiv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f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strictiv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all got new shoes, that were blac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fo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nrestrictive: My mom bought me a new pair of pants, which were too big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12840" y="1600200"/>
            <a:ext cx="82785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of transitional expression using a comma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 thought the assignment for class was due tomorrow; however, it was due toda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renthetical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all did well on the quiz, or so we though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Rule 6: Using commas to set off transitional and parenthetical expressions, absolute phrases, and contrasted elements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2840" y="1600200"/>
            <a:ext cx="82785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are transitional expressions: They are bridges that connect sentences or parts of sentenc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s: </a:t>
            </a: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however, moreover, therefor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ample of transitional expression using a comma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 thought the assignment for class was due tomorrow; however, it was due toda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renthetical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e all did well on the quiz, or so we thought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bsolute phrases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 decided that I need to do laundry, Having discovered that I was out of clean shirt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rasted Elements example: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e were hoping for a snow day, not a snow delay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7: Using commas to set off nouns of direct address, the words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yes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and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no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, interrogative tags, and mild interjections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rect addres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’m sorry, Mom, for not telling you that I would be late for curfe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es and no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No, I’m not busy this week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rogative tag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at party was a lot of fun, y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ld interjections 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ll, I didn’t think it wa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9000" y="6696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8: Using commas with expressions such as </a:t>
            </a:r>
            <a:r>
              <a:rPr b="0" i="1" lang="en-US" sz="3200" spc="-1" strike="noStrike">
                <a:solidFill>
                  <a:srgbClr val="2c7c9f"/>
                </a:solidFill>
                <a:latin typeface="News Gothic MT"/>
              </a:rPr>
              <a:t>he said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to set off direct quotatio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ce the comma at the end of the word before the quote beg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n the first day of class, the professor told the class, “If you’re going to fall asleep in class, don’t bother even showing up.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293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9: Using commas with dates, addresses, titles, and numbers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ates: Use a comma to set the year off from the rest of the sent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e learned that on July 4, 1776, the US Constitution was sign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dresses: Place names and the various parts of an address are separated by comma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he correct mailing address for Alma College is 614 W. Superior St., Alma, MI 4880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Ni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tles: Titles should be separated from the rest of a name using a com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regory House, MD, is a fictional television charac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mbers: If a number is four or more digits long, use a comma to separate numbers in groups of three, starting from the last digit to the r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3500➜3,5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0: Using a comma to prevent confusion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 contexts, including those where a word is omitted, has two similar words next to one another, or those with words that could accidently be grouped, a comma is needed to prevent confus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0: Using a comma to prevent confusion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 contexts, including those where a word is omitted, has two similar words next to one another, or those with words that could accidently be grouped, a comma is needed to prevent confus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For those who are able, please exit to your lef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2934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ependent clauses: word groups that </a:t>
            </a: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could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stand alone as separate clau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932040"/>
            <a:ext cx="804204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1: Using a comma before a coordinating conjunction joining independent clauses.</a:t>
            </a: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dependent clauses: word groups that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could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and alone as separate claus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7 coordinate conjunctions: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and, but, or, nor, for, so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nd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yet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179800" y="5073480"/>
            <a:ext cx="7715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06" name="Picture 4" descr="2731441455_550f775698.jpg"/>
          <p:cNvPicPr/>
          <p:nvPr/>
        </p:nvPicPr>
        <p:blipFill>
          <a:blip r:embed="rId1"/>
          <a:stretch/>
        </p:blipFill>
        <p:spPr>
          <a:xfrm>
            <a:off x="3821040" y="3990960"/>
            <a:ext cx="477036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O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does the comma do? The comma is used to tell the reader that the first independent clause is done and the second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ule One Continued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does the comma do? The comma is used to tell the reader that the first independent clause is done and the second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I usually wake up late for class, but today I woke up on tim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eption for Rule One.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inder: Do not use a comma in a sentence of two coordinate word groups if they are not independent clau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ample: 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oday we are learning about commas and how to use them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ule 2: Using a comma after an introductory word group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als with sentences that tell information such as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en, where, how,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, or under what conditions the main action is about to beg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8:21:09Z</dcterms:created>
  <dc:creator>Caitlin Gordon-Perkioniemi</dc:creator>
  <dc:description/>
  <dc:language>en-US</dc:language>
  <cp:lastModifiedBy>Caitlin Gordon-Perkioniemi</cp:lastModifiedBy>
  <dcterms:modified xsi:type="dcterms:W3CDTF">2011-01-21T16:15:21Z</dcterms:modified>
  <cp:revision>63</cp:revision>
  <dc:subject/>
  <dc:title>Commas</dc:title>
</cp:coreProperties>
</file>